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3E181BE-AD36-4B42-97F4-6E23F4092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d slide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6BC83A4-6920-4EF5-9075-2E8628651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93760" y="69372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4560" y="4417560"/>
            <a:ext cx="51404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390B-F62E-46B8-8A96-242E1A29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7C4-342D-40B7-A221-6A69030B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177-7582-4BA3-877E-748E5F59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9BE8-C8F3-4DF7-9D01-0D627222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25C-7988-4D77-9C73-7A897127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FC0A-B721-437F-AD17-AD9CFA35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658-F45D-4842-A9AE-79691C3E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A72-8CBD-416C-937C-B4B0943B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23D-4888-4F8C-816A-5FFAFD62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75BE-1EAD-46C1-B761-1E7C5FD0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A33-DADC-4AA3-AC36-08365D15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47C3-21F2-440C-A545-BB0C6131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A006-9961-4B2B-AB72-5AD01E452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venting Medication Prescribing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breviations That Shoul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Nev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Be U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bbrevi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staken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d (dai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ments of a Medication Order or Pr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ways communicate complet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ient’s full name and lo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ble patient-specific data (e.g., allergies, age, weigh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ic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rand name, if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ug strength in metric units by w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sage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ount to be dispensed, expressed in metric un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ments of a Medication Order or Prescrip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directions for use, including route of administration and frequency of dosing (never “take as directed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refills or duration of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 of the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urpose of a Med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ing the purpose for a medication provides the pharmacist, nurse, and patient with additional assurance that they have the correct me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should be educated to ask their prescribers to include the purpose of the medication on all of their pr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73200" y="1600200"/>
            <a:ext cx="3824280" cy="495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2438280" y="1523880"/>
          <a:ext cx="3962520" cy="5181840"/>
        </p:xfrm>
        <a:graphic>
          <a:graphicData uri="http://schemas.openxmlformats.org/drawingml/2006/table">
            <a:tbl>
              <a:tblPr/>
              <a:tblGrid>
                <a:gridCol w="3962520"/>
              </a:tblGrid>
              <a:tr h="51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2286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rapeutic Category of Prescribed Med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formation About the Pat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 prescribing requires knowledge of the patient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l and hepat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and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 medications including OT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rgies/drug sensi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nancy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and family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u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bing problems can inv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sion between formulation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ly nam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es beyond safe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-label prescri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ed therap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ok-Alike or Sound-Alik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ug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drug names on prescriptions may look like other similar drug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rug names may sound like other agents and verbal orders must be handled very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Navan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Versus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Norva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bvious potential mix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written prescriptions for these agents have resulted in at leas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es of medication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bal 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ken or verbal orders should be avoided whenever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error reduction strategies related to the prescrib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safety value of preprinted order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medication reconcili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conflict resolution as it relates to troublesome medication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bal Order for a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-Month-Old Chi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et this kid .8 morphin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fety Recommendations for Spoken Ord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verbal orders to true emergencies or when prescriber is physically unable to write or electronically transmit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spoken orders to formulary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hibit spoken orders for high-alert med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personnel who may receive telephone or spoken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fety Recommendations for Spoken 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 possible, have a second person listen to the spoken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physicians’ offices with appropriate forms so orders may be faxed or electronically transmitted, especially for new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time frame for prescribers to validate (sign) verbal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fety Recommendations for Spoken 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cribers should spell unfamiliar drug names (e.g., saying “T as in Tom” or “C as in Charli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cribers should pronounce each digit of a number separately (e.g., saying “one six” instead of “sixteen” to avoid confusion with “sixty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cribers should provide pager or telephone number for questions that a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fety Recommendations for Spoken 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cribers should speak slowly and cl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s shoul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order onto a prescription or into the medical record and th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ad 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order to the prescriber to verify it is corr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s should not accept spoken orders when the prescriber i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surgeon who is “scrubbed 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mbiguous or Incomplete 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1625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ve patient 24 VP-16 capsules before dischar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vent Prescription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patient diagnosis or purpose of thera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legibly: PRINT, PRINT, PR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not use “As Directed” unless more complete directions are also given on another paper (e.g., complex tapering dosag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patient data if relevant (height, weight, age, body surface are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dosage form need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complete directions for u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abbreviate route of admini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pregnancy status if patient is pregn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 patient about medication prescri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interpret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ysician’s Pr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showed that medication errors related to misinterpreted physicians’ prescriptions were the second most prevalent and expensive claim listed on 90,000 malpractice claims filed over a 7-year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47880" y="2438280"/>
            <a:ext cx="7584840" cy="165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5800" y="5335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Typewriter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legible Hand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tent of Prescribing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based study evaluating medication prescribing errors found overall rate of 3.99 clinically significant errors per 1,000 orders over a 1-year peri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%: failure to change drug therapy with hepatic or renal dys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%: failure to recognize allergy to the medication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%: use of an incorrect drug name, dosage form, or abbr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%: use of an atypical or unusual, but critical dosage frequenc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609588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ar TS,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AMA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997;277:3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ndwriting: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JAM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y of physicians’ handwriting and wast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7 staff physicians in a 500-bed teaching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% illegible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% barely legible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writ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ac surge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st writ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surge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6095880"/>
            <a:ext cx="71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nymous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AM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1979;242:24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ndwriting: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eart &amp; Lu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ians’ handwritten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tiary hospital in Texas; 176 orders, 55 physician signatures; 39 phys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% of the orders and 78% of the signatures were ille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% of medication orders incomplete (18% omitted date and 57% had time miss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095880"/>
            <a:ext cx="74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slow E,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eart Lun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97;26:15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ndwriting: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MJ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physicians’ hand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rite worse than others in 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 advocate changes in systems so no one’s handwriting leads to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6019920"/>
            <a:ext cx="74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rwick DM,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M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1996;313:165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ndwriting: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rch Fam M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19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 by physician authors regarding legi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s should assess their own handwriting skills and prescribing ha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yped, preprinted prescription p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use of staff assistants with excellent penma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601992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dell RT, et al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rch Fam Me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997;6:29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ndwriting: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rch Fam M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, spell out the word “units,” avoid slashes and trailing zer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t a leading zero (0) in front of a decimal value less tha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nstructions on each prescription, including purpose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, rather than discourage, pharmacists to call if they see any discrepancy in a pr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ndwriting: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rch Fam M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patients to bring all of their medications with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careful verbal patie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possibility of inadvertent drug substitution when side effects are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computer software available for computer-generated prescriptio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mendations for Safe Design of Preprinted 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multidisciplinary input when designing preprinted or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eneric nam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brand names for single-sourc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coined names and jar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use dangerous abbrev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doses in metric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reason for each prescribed medication whenever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mendations for Safe Design of Preprinted 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hemotherapy orders, list dosage per square met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include daily dose and the number of days the drug should be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ediatric orders, include dosage per kilogram when a calculated dose must be en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mendations for Safe Design of Preprinted 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readability by using professional quality fonts and print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racking number and revision date on the form to ease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it lines on back copies of any carbonless order form to avoid obscuring decimal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ll preprinted orders or order sets every 2 to 3 years or when protocols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uteriz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criber Order Entry (CPO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s poorly written prescriptions, improper terminology, ambiguous orders, and omit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itute of Medicine recommends that all prescribers should be using CPOE b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OE has the potential 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al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dication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rect or inappropriate do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ppropriate medication for the medical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failure between physician and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ication Reconcil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communication of medical information at transition points is responsible for up to 50% of all medication errors and up to 20% of adverse drug events in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oint Commission has made a National Patient Safety Goal (NPSG) requiring hospitals, ambulatory care settings, and long-term care organizations to “reconcile medications across the continuum of ca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ication Reconcil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tain list of current medications including OTC prepa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 inspection of the pre-admission medications may be help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criber must consider the medication list when prescribing admission med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repancies must be reconci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ication Reconcil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ciliation of the medication list is performed again upon transfer and dis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tion list should be shared with the next provider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instructions must be given to patients regarding which of their pre-admission medications have been changed or dis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imidating Prescri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e for Safe Medication Practices survey results noted that 7% of 2,000 health care professionals responding said they had been involved in a medication error in the previous year in which intimidation played a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s should enforce a zero tolerance policy for intim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olving Conflicts i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Drug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pharmacist is not satisfied that a patient will not be harmed and the prescribe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ill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the ord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ult with prescriber’s chief resident, chief attending physician, department chairperson, or a specialist in the area of the drug therapy or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community, a pharmacist might consult with the prescriber’s partner (if there is one) or refuse to fill the pr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olving Conflicts i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ug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nicians should refuse to administer or dispense a drug if they are reasonably sure that withholding it is the safest 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d hoc peer group may be necessary to determine an order’s safe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nymous. Study of physicians’ handwriting as a timewaster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MA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1979;242:242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rwick DM, Winickoff DE. The truth about doctors’ handwriting: a prospective study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MJ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1996;313:165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dell RT, Helms SE, KrishnaRao I, et al. Prescription errors: legibility and drug name confusion.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rch Fam Med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1997;6:29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ar TS, Briceland L, Stein DS. Factors related to errors in medication prescribing.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JAMA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1997;277:31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inslow E, Nestor V, Davidoff S. Legibility and completeness of physicians’ handwritten medication orders.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eart Lung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1997;26:158–6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196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unication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u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iers that lead to ineffective communication 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lear order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egible hand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gerous abbreviations and dose desig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al 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guous 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59080" y="6173640"/>
            <a:ext cx="289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ndardize Order Commun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iminate verbal ord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generic and brand na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abbreviate drug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o stick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o-Synephrine or neostigm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not refer to drugs by class na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“platinum” carboplatin or cisplat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ver prescribe only by volume or number of vials or ampu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oxin 0.7 mL daily by mout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treng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25 mg/mL or 0.1 mg/m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59080" y="6173640"/>
            <a:ext cx="289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ndardize Order Commun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tandard units (mEq, mg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patient’s weight and/or body surface area on drug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he dose basis to allow an independent double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/kg or mg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der-Writing Pract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use of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ro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1 m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0 m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1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 to remember: if the decimal is not seen, 10-fold error might b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der-Writing Pract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paces between name of medication and dose, as well as between the dose and the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ranolol30mg – looks like l30mg instead of  Propranolol 30 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2:21:50Z</dcterms:created>
  <dc:creator>Joel Shuster</dc:creator>
  <dc:description/>
  <dc:language>en-US</dc:language>
  <cp:lastModifiedBy>jlieu</cp:lastModifiedBy>
  <dcterms:modified xsi:type="dcterms:W3CDTF">2008-11-25T22:51:31Z</dcterms:modified>
  <cp:revision>71</cp:revision>
  <dc:subject/>
  <dc:title>Misinterpreted Physician’s Prescriptions</dc:title>
</cp:coreProperties>
</file>